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756-149E-4785-9FE2-545E50C0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0DFA-EC30-4F63-8061-4CCABFC3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F70C-3394-4D2A-ACD8-E9C39242B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B07-98BF-48CA-BBB9-E8A3D5E2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08DD-835F-4A1D-AA39-0C233DC6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9793-0201-4420-A6D8-ED38D075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4CCE-38F8-4828-92AF-C124E250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2BE4-1349-4759-AA68-7FA40485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9F6B-1F8A-44A0-9559-E24E5275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3AC0-1B10-4FC7-B007-D3A15138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6BFAA-C816-4672-B605-7B6F34D4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EAB-38E2-482C-9C25-712AFCD4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188F-2919-431D-A694-994B0E09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D38C-9487-4F19-952A-1A86F439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038B-6553-48E9-8914-A5DA6CA4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1288-8469-4497-BBA2-290C8D06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FF48-75AA-47CF-ADC1-7F979BA0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275-6989-4162-8D42-91036FD9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CBB-CA7C-4575-AC61-FC38C883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791-12E1-4B90-B981-66B51493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D739-B766-46D3-8D0F-14D24CD4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6268-3DA5-4265-B160-7097830B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85E-1E20-4D89-AC4D-195E566B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03A-98A0-47FE-9A5F-5B596DC2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1187-B6DE-4CA4-BA8A-6C2882E72C03}" type="slidenum">
              <a:rPr b="1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E255-CD59-4327-9F2D-43D68F35A63C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Imprint MT Shadow"/>
              </a:rPr>
              <a:t>Career Planning</a:t>
            </a:r>
            <a:r>
              <a:rPr b="0" lang="en-US" sz="4800" spc="-1" strike="noStrike">
                <a:solidFill>
                  <a:srgbClr val="dfd293"/>
                </a:solidFill>
                <a:latin typeface="Imprint MT Shadow"/>
              </a:rPr>
              <a:t>	</a:t>
            </a: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rint MT Shadow"/>
              </a:rPr>
              <a:t>The World of Work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gree / Disagree / Have No Idea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Dreaming is an important part of career planning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Unless you’re rich, starting a business is not a realistic career possibility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Job satisfaction is affected by your hours, the people you work with, work environment, and the things you do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gree / Disagree / Have No Idea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One of the good things about earning money is that you always have lots of time to enjoy it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If you have a good education and work hard, you’re guaranteed to get the job you want and keep it the rest of your lif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Most people will have more than a dozen jobs in their lives.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Imprint MT Shad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Discussion Question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rint MT Shadow"/>
              </a:rPr>
              <a:t>What is the difference between a JOB and a CAREER?</a:t>
            </a:r>
            <a:endParaRPr b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gree / Disagree / Have No Idea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Only people who make more than $30, 000 a year pay income tax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Finishing High School has no connection to how much money you can earn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Imprint MT Shadow"/>
              </a:rPr>
              <a:t>3</a:t>
            </a:r>
            <a:r>
              <a:rPr b="1" i="1" lang="en-US" sz="32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Imprint MT Shadow"/>
              </a:rPr>
              <a:t>Transferable Skills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 are skills you can pass on to your co-worker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gree / Disagree / Have No Idea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The amount of Leisure Time you have depends solely on your occupation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Hating your high – paying job is no reason to leave it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You should start thinking about working life a few years before you leave high school, and stick with your idea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gree / Disagree / Have No Idea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7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Improving technology always leads to creating job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8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Once you graduate from University or College, the classroom part of learning is over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9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Learning a trade is only good if you aren’t accepted into university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gree / Disagree / Have No Idea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Math skills are only useful in the scientific or technical field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Volunteering can help give you skills that could get you a job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The best occupations are the ones that pay the most money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gree / Disagree / Have No Idea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If you’re smart and leave school early, you’ll be able to get to the high-paying jobs ahead of your classmate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What you study in high school can really affect your job choices later in lif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Gross monthly income is the money left over after you pay your bills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gree / Disagree / Have No Idea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When you’re choosing among career options, it helps to talk to people who have jobs that appeal to you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It makes sense to take your personality into account when you choose an occupation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To plan a successful career, the most important factor should always be the money you will earn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gree / Disagree / Have No Idea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Because you will spend a large portion of your later life working, you might as well go ahead and enjoy life now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In most jobs, you do not have to organize your own work because you will be told what to do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Imprint MT Shadow"/>
              <a:buAutoNum type="arabicPlain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When you have a job, you can buy whatever you want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23:06:30Z</dcterms:created>
  <dc:creator>Administrator</dc:creator>
  <dc:description/>
  <cp:keywords/>
  <dc:language>en-US</dc:language>
  <cp:lastModifiedBy>Administrator</cp:lastModifiedBy>
  <dcterms:modified xsi:type="dcterms:W3CDTF">2006-04-19T17:53:09Z</dcterms:modified>
  <cp:revision>6</cp:revision>
  <dc:subject/>
  <dc:title>Career Plann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774331033</vt:lpwstr>
  </property>
</Properties>
</file>